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DDEA-E09E-4F30-8BEE-BD239650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EBD-42C1-417C-A53C-AA66A86C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FAD6-45E2-40F7-ABF4-30422E1A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639-FB51-4B2F-AFFC-9EBF40E9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BDEC-400A-45CE-BC13-241D6B80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DCC-363B-460A-AE75-0C60C4AA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FA56-5711-4B93-8ECF-9667ACD7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327-891A-44E0-9B69-FA961D1D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864-93D2-46A0-9535-37E18C7C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2B5A-1382-45CC-8EB9-B65D776E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A7C-D725-4E3D-A45A-801116F8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D6B2-F9E8-4BDB-B30E-49F0AC7E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39DE-757D-49BB-B666-62D2A9D6F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o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>
            <a:hlinkClick r:id="rId2" action="ppaction://hlinksldjump"/>
          </p:cNvPr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6"/>
          <p:cNvSpPr/>
          <p:nvPr/>
        </p:nvSpPr>
        <p:spPr>
          <a:xfrm>
            <a:off x="2590920" y="990720"/>
            <a:ext cx="3962160" cy="27432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0" y="190440"/>
            <a:ext cx="2590920" cy="643896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reeform 8"/>
          <p:cNvSpPr/>
          <p:nvPr/>
        </p:nvSpPr>
        <p:spPr>
          <a:xfrm>
            <a:off x="6551640" y="228600"/>
            <a:ext cx="2592360" cy="643896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2">
            <a:hlinkClick r:id="rId7" action="ppaction://hlinksldjump"/>
          </p:cNvPr>
          <p:cNvSpPr/>
          <p:nvPr/>
        </p:nvSpPr>
        <p:spPr>
          <a:xfrm>
            <a:off x="4002120" y="5832360"/>
            <a:ext cx="1449360" cy="8654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Ent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13">
            <a:hlinkClick r:id="rId9" action="ppaction://hlinksldjump"/>
          </p:cNvPr>
          <p:cNvSpPr/>
          <p:nvPr/>
        </p:nvSpPr>
        <p:spPr>
          <a:xfrm rot="16200000">
            <a:off x="45000" y="1414800"/>
            <a:ext cx="2630520" cy="16192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16"/>
          <p:cNvSpPr/>
          <p:nvPr/>
        </p:nvSpPr>
        <p:spPr>
          <a:xfrm flipH="1" rot="5400000">
            <a:off x="6215040" y="1653120"/>
            <a:ext cx="3001680" cy="1575000"/>
          </a:xfrm>
          <a:prstGeom prst="pie">
            <a:avLst/>
          </a:prstGeom>
          <a:blipFill rotWithShape="0">
            <a:blip r:embed="rId1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2922480" y="1336680"/>
            <a:ext cx="1752840" cy="13161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1"/>
          <p:cNvSpPr/>
          <p:nvPr/>
        </p:nvSpPr>
        <p:spPr>
          <a:xfrm>
            <a:off x="3146400" y="0"/>
            <a:ext cx="114480" cy="2462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5969160" y="0"/>
            <a:ext cx="114120" cy="2462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2666880" y="228600"/>
            <a:ext cx="3810240" cy="522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5724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Geography Ro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4923000" y="2044800"/>
            <a:ext cx="1404720" cy="11239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177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178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61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3023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60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69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70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72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332320" y="456552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7:11:51Z</dcterms:created>
  <dc:creator>EA User</dc:creator>
  <dc:description/>
  <dc:language>en-US</dc:language>
  <cp:lastModifiedBy>EA User</cp:lastModifiedBy>
  <dcterms:modified xsi:type="dcterms:W3CDTF">2009-08-24T17:14:55Z</dcterms:modified>
  <cp:revision>1</cp:revision>
  <dc:subject/>
  <dc:title>Room 1</dc:title>
</cp:coreProperties>
</file>